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projctor.wav" ContentType="audio/x-wav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1.wmf" ContentType="image/x-wmf"/>
  <Override PartName="/ppt/media/image42.wmf" ContentType="image/x-wmf"/>
  <Override PartName="/ppt/media/image9.png" ContentType="image/png"/>
  <Override PartName="/ppt/media/image6.gif" ContentType="image/gif"/>
  <Override PartName="/ppt/media/image32.wmf" ContentType="image/x-wmf"/>
  <Override PartName="/ppt/media/image12.png" ContentType="image/png"/>
  <Override PartName="/ppt/media/image41.wmf" ContentType="image/x-wmf"/>
  <Override PartName="/ppt/media/image8.png" ContentType="image/png"/>
  <Override PartName="/ppt/media/image40.wmf" ContentType="image/x-wmf"/>
  <Override PartName="/ppt/media/image7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56F-5230-46BE-B667-EFCEA568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401-3C7A-4DBA-95B3-3EF4A287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89D-7912-417B-A42F-55B55B61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F5F-C563-4FE3-9895-D288CD5B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4F27-9C22-4A7F-A1EC-92048CF4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3BA6-4FD6-46FF-A5D4-34843DC2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65CF-06E5-4BAB-9B22-1EF2BF0D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E0F7-618F-43EC-B527-E8CB50D1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D0DF-1B03-4872-A399-A7341668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A493-C248-456E-B7A9-416B3AE6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BD25-9EBC-4B19-B85B-9B0C137B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629-FE5B-4101-95FA-44B1E719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3A41-54FC-4989-B846-A6CAFED7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334E-AAD8-44E2-9887-C25F43CE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7A83-E202-4146-862F-E0A671FA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EC9A-AA8B-451C-9718-B95CE880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1DB9-DDD1-423D-ABD4-25B59550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6D4-A244-44FF-9B43-D4C214C1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D0E-7F8E-4114-A919-1F71A400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C4D-D106-4669-9ACB-9280F89C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918-8A1B-48D4-9980-E4F2FC05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674-D037-412C-8005-211C40DC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4C0-4318-46E9-8372-28D78C9A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6D5-6F27-4FC2-A4AE-145A825B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B25D-2F53-477A-B089-2DA625FDB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A0E9-AF77-4171-A5E7-ADAF2BB8E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ell.com/us/en/gen/default.htm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hyperlink" Target="http://www.netian.com/~jjhwan16/immol/immallplan.ppt" TargetMode="External"/><Relationship Id="rId5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vineyard.com/" TargetMode="External"/><Relationship Id="rId3" Type="http://schemas.openxmlformats.org/officeDocument/2006/relationships/hyperlink" Target="http://www.netian.com/~jjhwan16/immol/immallplan.ppt" TargetMode="External"/><Relationship Id="rId4" Type="http://schemas.openxmlformats.org/officeDocument/2006/relationships/image" Target="../media/image9.pn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hyperlink" Target="http://www.netian.com/~jjhwan16/immol/immallplan.ppt" TargetMode="External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jklee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freeeasy.co.kr/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webpro.co.kr/digital/dfe-7.htm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hyperlink" Target="http://www.amazon.com/exec/obidos/subst/recs/instant-recs-home.html/ref=pd_ir_gw_r/102-7238305-9476142" TargetMode="External"/><Relationship Id="rId4" Type="http://schemas.openxmlformats.org/officeDocument/2006/relationships/hyperlink" Target="http://www.amazon.com/exec/obidos/flex-sign-in/ref=pd_ir_gw_r/102-7238305-9476142?opt=oa&amp;page=recs/sign-in-secure.html&amp;response=tg/recs/recs-post-login-dispatch/-/recs/pd_rw_gw_r" TargetMode="Externa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members.tripod.lycos.co.kr/jackchun/" TargetMode="External"/><Relationship Id="rId2" Type="http://schemas.openxmlformats.org/officeDocument/2006/relationships/hyperlink" Target="http://members.tripod.lycos.co.kr/jackchun/" TargetMode="External"/><Relationship Id="rId3" Type="http://schemas.openxmlformats.org/officeDocument/2006/relationships/hyperlink" Target="http://members.tripod.lycos.co.kr/jackchun/" TargetMode="Externa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amazon.com/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Amazon.com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재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박건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김태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51116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제조업자 주도형 모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중간 유통업자의 부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직접 주문 및 생산 방식 </a:t>
            </a:r>
            <a:r>
              <a:rPr b="0" lang="ko-K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무재고 경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소비자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공급자 모두에게 이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ysco corporation, customdisks.co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149560"/>
            <a:ext cx="337212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697800" y="2006640"/>
            <a:ext cx="2065320" cy="1879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343400" y="2514600"/>
            <a:ext cx="2209680" cy="0"/>
          </a:xfrm>
          <a:prstGeom prst="line">
            <a:avLst/>
          </a:prstGeom>
          <a:ln w="572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2971800"/>
            <a:ext cx="2209680" cy="0"/>
          </a:xfrm>
          <a:prstGeom prst="line">
            <a:avLst/>
          </a:prstGeom>
          <a:ln w="57240">
            <a:solidFill>
              <a:srgbClr val="cc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905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택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주문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제조업자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59228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253512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중개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3492360" y="260280"/>
            <a:ext cx="905040" cy="533520"/>
          </a:xfrm>
          <a:custGeom>
            <a:avLst/>
            <a:gdLst>
              <a:gd name="textAreaLeft" fmla="*/ 0 w 905040"/>
              <a:gd name="textAreaRight" fmla="*/ 905400 w 905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소비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7224120" y="4005360"/>
            <a:ext cx="12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+12% </a:t>
            </a:r>
            <a:r>
              <a:rPr b="0" lang="zh-CN" sz="1800" spc="-1" strike="noStrike">
                <a:solidFill>
                  <a:srgbClr val="ffffff"/>
                </a:solidFill>
                <a:latin typeface="굴림"/>
              </a:rPr>
              <a:t>경쟁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3860640"/>
            <a:ext cx="2737080" cy="28908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516720" y="4292280"/>
            <a:ext cx="576360" cy="7308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6237360"/>
            <a:ext cx="630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굴림"/>
                <a:hlinkClick r:id="rId4"/>
              </a:rPr>
              <a:t>http://www.netian.com/~jjhwan16/immol/immallplan.pp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148428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굴림"/>
              </a:rPr>
              <a:t>광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547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제조업자 주도형 모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제조업자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159228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53512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중개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3492360" y="260280"/>
            <a:ext cx="905040" cy="533520"/>
          </a:xfrm>
          <a:custGeom>
            <a:avLst/>
            <a:gdLst>
              <a:gd name="textAreaLeft" fmla="*/ 0 w 905040"/>
              <a:gd name="textAreaRight" fmla="*/ 905400 w 905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소비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5545080" cy="4938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 flipH="1" flipV="1">
            <a:off x="6803640" y="1413000"/>
            <a:ext cx="576360" cy="3240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907920"/>
            <a:ext cx="1008360" cy="433440"/>
          </a:xfrm>
          <a:prstGeom prst="rect">
            <a:avLst/>
          </a:prstGeom>
          <a:solidFill>
            <a:srgbClr val="3366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굴림"/>
              </a:rPr>
              <a:t>구성하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5473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제조업자 주도형 모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제조업자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159228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253512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중개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260280"/>
            <a:ext cx="905040" cy="533520"/>
          </a:xfrm>
          <a:custGeom>
            <a:avLst/>
            <a:gdLst>
              <a:gd name="textAreaLeft" fmla="*/ 0 w 905040"/>
              <a:gd name="textAreaRight" fmla="*/ 905400 w 905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소비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54007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5256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유통업자 주도형 모델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26028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조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 도 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66536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60820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중개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3589200" y="260280"/>
            <a:ext cx="905040" cy="533520"/>
          </a:xfrm>
          <a:custGeom>
            <a:avLst/>
            <a:gdLst>
              <a:gd name="textAreaLeft" fmla="*/ 0 w 905040"/>
              <a:gd name="textAreaRight" fmla="*/ 905400 w 905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소비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697800" y="2006640"/>
            <a:ext cx="2065320" cy="1879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343400" y="2514600"/>
            <a:ext cx="2209680" cy="0"/>
          </a:xfrm>
          <a:prstGeom prst="line">
            <a:avLst/>
          </a:prstGeom>
          <a:ln w="572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2971800"/>
            <a:ext cx="2209680" cy="0"/>
          </a:xfrm>
          <a:prstGeom prst="line">
            <a:avLst/>
          </a:prstGeom>
          <a:ln w="57240">
            <a:solidFill>
              <a:srgbClr val="cc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1905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굴림"/>
              </a:rPr>
              <a:t>택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굴림"/>
              </a:rPr>
              <a:t>주문</a:t>
            </a:r>
            <a:r>
              <a:rPr b="1" lang="en-US" sz="2800" spc="-1" strike="noStrike">
                <a:solidFill>
                  <a:srgbClr val="ffff66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424080" y="3505320"/>
            <a:ext cx="387936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편적인 상거래 방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이용의 편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광고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홍보 비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cc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cccc00"/>
                </a:solidFill>
                <a:uFillTx/>
                <a:latin typeface="굴림"/>
                <a:hlinkClick r:id="rId2"/>
              </a:rPr>
              <a:t>vineyard.com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CJmal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3429000"/>
            <a:ext cx="1067040" cy="1447920"/>
          </a:xfrm>
          <a:prstGeom prst="line">
            <a:avLst/>
          </a:prstGeom>
          <a:ln w="38160">
            <a:solidFill>
              <a:srgbClr val="cc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64832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0"/>
                </a:solidFill>
                <a:latin typeface="굴림"/>
              </a:rPr>
              <a:t>협력업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6237360"/>
            <a:ext cx="630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굴림"/>
                <a:hlinkClick r:id="rId3"/>
              </a:rPr>
              <a:t>http://www.netian.com/~jjhwan16/immol/immallplan.pp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1619280" y="2349360"/>
            <a:ext cx="2448000" cy="711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419640" y="177336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굴림"/>
              </a:rPr>
              <a:t>광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5148360" y="400536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굴림"/>
              </a:rPr>
              <a:t>광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9228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260280"/>
            <a:ext cx="905040" cy="533520"/>
          </a:xfrm>
          <a:custGeom>
            <a:avLst/>
            <a:gdLst>
              <a:gd name="textAreaLeft" fmla="*/ 0 w 905040"/>
              <a:gd name="textAreaRight" fmla="*/ 905400 w 905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소비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56000" y="26028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중개형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26028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조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 도 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1564560" y="90792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유통업자 중개형 모델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316560" y="1895400"/>
            <a:ext cx="2065320" cy="1879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eBay logo"/>
          <p:cNvPicPr/>
          <p:nvPr/>
        </p:nvPicPr>
        <p:blipFill>
          <a:blip r:embed="rId2"/>
          <a:stretch/>
        </p:blipFill>
        <p:spPr>
          <a:xfrm>
            <a:off x="684360" y="2060640"/>
            <a:ext cx="2639880" cy="1423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716360" y="501336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0"/>
                </a:solidFill>
                <a:latin typeface="굴림"/>
              </a:rPr>
              <a:t>협력업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56360" y="4005360"/>
            <a:ext cx="914400" cy="914400"/>
          </a:xfrm>
          <a:prstGeom prst="line">
            <a:avLst/>
          </a:prstGeom>
          <a:ln w="572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3763800" y="2581200"/>
            <a:ext cx="2210040" cy="0"/>
          </a:xfrm>
          <a:prstGeom prst="line">
            <a:avLst/>
          </a:prstGeom>
          <a:ln w="57240">
            <a:solidFill>
              <a:srgbClr val="cc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076720" y="4365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굴림"/>
              </a:rPr>
              <a:t>택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4449600" y="25812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굴림"/>
              </a:rPr>
              <a:t>주문</a:t>
            </a:r>
            <a:r>
              <a:rPr b="1" lang="en-US" sz="2800" spc="-1" strike="noStrike">
                <a:solidFill>
                  <a:srgbClr val="ffff66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3068640"/>
            <a:ext cx="1296720" cy="187308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6237360"/>
            <a:ext cx="630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00"/>
                </a:solidFill>
                <a:uFillTx/>
                <a:latin typeface="굴림"/>
                <a:hlinkClick r:id="rId3"/>
              </a:rPr>
              <a:t>http://www.netian.com/~jjhwan16/immol/immallplan.pp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3716280"/>
            <a:ext cx="432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영시스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가격흥정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흥미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공급자에게서만 수수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170028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굴림"/>
              </a:rPr>
              <a:t>광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3040" y="2337120"/>
            <a:ext cx="712080" cy="24552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굴림"/>
              </a:rPr>
              <a:t>협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굴림"/>
              </a:rPr>
              <a:t>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굴림"/>
              </a:rPr>
              <a:t>업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굴림"/>
              </a:rPr>
              <a:t>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348000" y="3429000"/>
            <a:ext cx="1513080" cy="13795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제조업자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159228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2535120" y="26028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유통업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중개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3492360" y="260280"/>
            <a:ext cx="905040" cy="533520"/>
          </a:xfrm>
          <a:custGeom>
            <a:avLst/>
            <a:gdLst>
              <a:gd name="textAreaLeft" fmla="*/ 0 w 905040"/>
              <a:gd name="textAreaRight" fmla="*/ 905400 w 905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소비자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도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1421640" y="83664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굴림"/>
              </a:rPr>
              <a:t>소비자 주도형 모델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3832200" y="32004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5651640" y="5300640"/>
            <a:ext cx="1081080" cy="986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236000" y="3860640"/>
            <a:ext cx="1008000" cy="960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1079640" cy="982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5435640" y="1052640"/>
            <a:ext cx="2065320" cy="18795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 flipH="1">
            <a:off x="6011640" y="2997360"/>
            <a:ext cx="215640" cy="502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643280" y="2637000"/>
            <a:ext cx="865440" cy="863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7093080" y="2924280"/>
            <a:ext cx="503280" cy="865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5940360" y="4653000"/>
            <a:ext cx="71640" cy="576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619280" y="2133720"/>
            <a:ext cx="374328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1763640" y="3789360"/>
            <a:ext cx="1440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2708280"/>
            <a:ext cx="5616360" cy="1152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4005360"/>
            <a:ext cx="3816360" cy="172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2755440" y="1832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직접판매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7308720" y="30686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구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5238360" y="2913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구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6225840" y="3141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구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6009840" y="4724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구전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고용 전략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692000" y="37159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창의적인 기업인들로 자리를 채워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Jeff Bozos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회장의 인재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6560" y="3068640"/>
            <a:ext cx="6985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Jeff Bezos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의 대응</a:t>
            </a:r>
            <a:br>
              <a:rPr sz="2400"/>
            </a:br>
            <a:br>
              <a:rPr sz="2400"/>
            </a:b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훌륭한 재능을 갖춘 인재를 찾기 위해 타 점포를 평생 돌아다녔다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”</a:t>
            </a:r>
            <a:br>
              <a:rPr sz="1800"/>
            </a:b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br>
              <a:rPr sz="1800"/>
            </a:b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Wall Mart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창업자 ‘샘 월튼’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, &lt;Maid in America&gt;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에서</a:t>
            </a:r>
            <a:br>
              <a:rPr sz="1600"/>
            </a:br>
            <a:br>
              <a:rPr sz="1600"/>
            </a:b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“우리는 다른 업체의 판매전략 따위엔 관심 없다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그러나 뛰어난 인재에는 누구보다 큰 관심을 갖고 있다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2519640" cy="3175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회장의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인재관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61272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용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076720" y="2276640"/>
            <a:ext cx="2664000" cy="774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419640" y="2565360"/>
            <a:ext cx="1657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419640" y="1989000"/>
            <a:ext cx="1584000" cy="432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0"/>
                </a:solidFill>
                <a:latin typeface="굴림"/>
              </a:rPr>
              <a:t>소송 제기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31640" y="765000"/>
            <a:ext cx="604836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Finding Great Employee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입 사원의 능력 기준을 높인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Bezos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회장과의 일대일 면담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‘소크라테스식 시험’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영진과의 면담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른 경영진의 의견을 수렴한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용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인재 찾기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6337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Bezos</a:t>
            </a: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회장의 면담 스타일 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준 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Leadership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을 발휘해야 할 간부직에는 보통사람을 위한 자리가 없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’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아마존 최고재무책임자 코베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37).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인회계사 시험을 차석으로 통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등을 못했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?”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부를 통 안 했거든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140360" y="6021360"/>
            <a:ext cx="4381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0"/>
                </a:solidFill>
                <a:latin typeface="굴림"/>
              </a:rPr>
              <a:t>Reference: </a:t>
            </a:r>
            <a:r>
              <a:rPr b="0" lang="en-US" sz="1800" spc="-1" strike="noStrike" u="sng">
                <a:solidFill>
                  <a:srgbClr val="cccc00"/>
                </a:solidFill>
                <a:uFillTx/>
                <a:latin typeface="굴림"/>
                <a:hlinkClick r:id="rId1"/>
              </a:rPr>
              <a:t>http://www.jklee.co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용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인재 찾기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34000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면담 방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Amazon.co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Keeping Great Employee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462560" cy="3760920"/>
          </a:xfrm>
          <a:prstGeom prst="rect">
            <a:avLst/>
          </a:prstGeom>
          <a:noFill/>
          <a:ln w="9360">
            <a:solidFill>
              <a:srgbClr val="33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Amazon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의 이윤 공유 프로그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&lt;Maid in America&gt;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에서 힌트를 얻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br>
              <a:rPr sz="2400"/>
            </a:br>
            <a:r>
              <a:rPr b="0" lang="en-US" sz="20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0" lang="zh-CN" sz="2000" spc="-1" strike="noStrike">
                <a:solidFill>
                  <a:srgbClr val="0000ff"/>
                </a:solidFill>
                <a:latin typeface="굴림"/>
              </a:rPr>
              <a:t>가정</a:t>
            </a:r>
            <a:r>
              <a:rPr b="0" lang="en-US" sz="20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이사진에 대한 좋은 대우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직원에 대한 긍정적인 영향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0" lang="zh-CN" sz="2000" spc="-1" strike="noStrike">
                <a:solidFill>
                  <a:srgbClr val="0000ff"/>
                </a:solidFill>
                <a:latin typeface="굴림"/>
              </a:rPr>
              <a:t>실제</a:t>
            </a:r>
            <a:r>
              <a:rPr b="0" lang="en-US" sz="20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이사진이 높은 이윤을 독점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0" lang="zh-CN" sz="2000" spc="-1" strike="noStrike">
                <a:solidFill>
                  <a:srgbClr val="0000ff"/>
                </a:solidFill>
                <a:latin typeface="굴림"/>
              </a:rPr>
              <a:t>대처</a:t>
            </a:r>
            <a:r>
              <a:rPr b="0" lang="en-US" sz="20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전 직원에게 확대 실시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0" lang="zh-CN" sz="2000" spc="-1" strike="noStrike">
                <a:solidFill>
                  <a:srgbClr val="0000ff"/>
                </a:solidFill>
                <a:latin typeface="굴림"/>
              </a:rPr>
              <a:t>성과</a:t>
            </a:r>
            <a:r>
              <a:rPr b="0" lang="en-US" sz="20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당해 최소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70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만 달러 이상을 벌어들인 트럭기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용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인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붙들기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234000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Wall Mar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219640" y="1773360"/>
          <a:ext cx="31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1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Keeping Great Employee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2349000"/>
            <a:ext cx="6262920" cy="7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Amazon.com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tock Option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042920" y="3429000"/>
            <a:ext cx="2952720" cy="3715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용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인재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붙들기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234000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Stock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Op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5076720" y="335772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단기적인 인센티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2881440" cy="8366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076720" y="4221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장기적인 인센티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140360" y="3573360"/>
            <a:ext cx="936360" cy="0"/>
          </a:xfrm>
          <a:prstGeom prst="line">
            <a:avLst/>
          </a:prstGeom>
          <a:ln w="572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4437000"/>
            <a:ext cx="936360" cy="0"/>
          </a:xfrm>
          <a:prstGeom prst="line">
            <a:avLst/>
          </a:prstGeom>
          <a:ln w="572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633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Amazon.com</a:t>
            </a: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의 기업문화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흥분과 혁신의 중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모험을 감수하는 분위기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기적인 가능성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gt;&gt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단기적인 이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Stock Option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상대적으로 낮은 직원임금 수준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마케팅 비용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고객필요에 따른 사업확장 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용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용정책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&amp;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기업문화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기업문화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632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어떻게 낮은 임금을 지급할 수 있나</a:t>
            </a:r>
            <a:r>
              <a:rPr b="0" lang="en-US" sz="36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직이 공유하고 있는 믿음과 기업정신</a:t>
            </a:r>
            <a:br>
              <a:rPr sz="2800"/>
            </a:b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“공동체의 일원이라는 의식이 주는 눈에 보이지 않는 이익”</a:t>
            </a:r>
            <a:br>
              <a:rPr sz="2400"/>
            </a:b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“어떤 조직의 일원으로서 뭔가 중요한 일의 일부가 되어 있다는 자긍심과 협동정신이 임금이나 기타 기업에서 제공하는 혜택과 같이 눈에 보이는 이익보다 더 중요할 수도 있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”</a:t>
            </a:r>
            <a:br>
              <a:rPr sz="2400"/>
            </a:b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 &lt; Finding and Keeping Great Employee &gt; 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中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Bill Silberman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용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공동체</a:t>
            </a:r>
            <a:br>
              <a:rPr sz="1200"/>
            </a:b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의식확립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234000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낮은 임금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How?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34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어떻게 공동체 의식을 기르나</a:t>
            </a: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팀의 정체성을 확보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32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워크를 잘 만드는 임원들의 경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을 하나로 묶을 수 있는 의식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儀式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을 추구한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ezos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장의 경우</a:t>
            </a:r>
            <a:br>
              <a:rPr sz="32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복장 규정이 없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찢어진 청바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펑크머리 </a:t>
            </a:r>
            <a:r>
              <a:rPr b="0" lang="ko-K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조직의 정체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용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공동체</a:t>
            </a:r>
            <a:br>
              <a:rPr sz="1200"/>
            </a:b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의식확립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234000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업의 역사를 공유한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’Bezos’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회장의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Amazon.com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창업 스토리는 신입사원들에게 구전되면서 이들을 하나로 묶어주는 역할을 한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직 내부에서 농담할 수 있도록 한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장에 따른 엄청난 스트레스에 시달리는 벤처 기업의 경우 유머는 반드시 필요하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용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공동체</a:t>
            </a:r>
            <a:br>
              <a:rPr sz="1200"/>
            </a:b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의식확립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755280" y="692280"/>
            <a:ext cx="73422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어떻게 공동체 의식을 기르나</a:t>
            </a: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마케팅 전략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692000" y="37159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이트의 브랜드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마케팅과 혁신은 결과물을 창출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머지는 모두 ‘비용’이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Peter F. Drucker, 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&lt;People and Performance&gt;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 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중요성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2429640" y="765000"/>
            <a:ext cx="31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마케팅 전략의 중요성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브랜드 파워를 집중시켜라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2709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여러 품목을 다루지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Amazon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이라는 하나의 브랜드 이름만 사용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실패한 사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Levi’s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는 어떤 청바지 제품에나 맞는 이름이 되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하지만 이렇게 되기까지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Levi’s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는 시장을 절반이나 잃어야 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 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파워의 집중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765000"/>
            <a:ext cx="7417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회사 이름은 원하는 이미지대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mazon’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으로 결정되기까지 석 달 소요 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’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로 시작되는 이름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Search Engine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리스트의 첫머리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짧고 기억하기 쉬우며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음하기 쉬운 단어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사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알레르기 치료용 눈에 넣는 약의 이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cuhist = Oculist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과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+ Histamine </a:t>
            </a:r>
            <a:r>
              <a:rPr b="0" lang="ko-K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음이 어렵다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Visine = Vision + Histamine </a:t>
            </a:r>
            <a:r>
              <a:rPr b="0" lang="ko-K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성 전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쉬운 발음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 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회사 이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48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회사 이름은 원하는 이미지대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 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회사 이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268360" y="1700280"/>
          <a:ext cx="489744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00280"/>
                    <a:ext cx="489744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 flipH="1" flipV="1">
            <a:off x="1476360" y="2565000"/>
            <a:ext cx="1008000" cy="107964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1916280"/>
            <a:ext cx="1223640" cy="649080"/>
          </a:xfrm>
          <a:prstGeom prst="rect">
            <a:avLst/>
          </a:prstGeom>
          <a:solidFill>
            <a:srgbClr val="336600"/>
          </a:solidFill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0"/>
                </a:solidFill>
                <a:latin typeface="굴림"/>
              </a:rPr>
              <a:t>1</a:t>
            </a:r>
            <a:r>
              <a:rPr b="1" lang="zh-CN" sz="2400" spc="-1" strike="noStrike">
                <a:solidFill>
                  <a:srgbClr val="000060"/>
                </a:solidFill>
                <a:latin typeface="굴림"/>
              </a:rPr>
              <a:t>순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Affiliate Program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1022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내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서적에 대한 판매대금 중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15%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을 가진다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기타 인쇄물과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CD, Video 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등에 대해서는 판매대금의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5%</a:t>
            </a: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가 배당된다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굴림"/>
              </a:rPr>
              <a:t>그밖에 별도의 비용 없이도 고객과 맺어질 수 있다는 장점이 있다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 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Cros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6208560" y="17604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24360" y="5805360"/>
            <a:ext cx="453528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0"/>
                </a:solidFill>
                <a:latin typeface="굴림"/>
              </a:rPr>
              <a:t>Reference: </a:t>
            </a:r>
            <a:r>
              <a:rPr b="0" lang="en-US" sz="1800" spc="-1" strike="noStrike" u="sng">
                <a:solidFill>
                  <a:srgbClr val="cccc00"/>
                </a:solidFill>
                <a:uFillTx/>
                <a:latin typeface="굴림"/>
                <a:hlinkClick r:id="rId1"/>
              </a:rPr>
              <a:t>http://www.freeeasy.co.k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932360" y="2133720"/>
            <a:ext cx="38163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69120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Affiliate Program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 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Cros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6208560" y="17604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908000" y="1844640"/>
          <a:ext cx="5832720" cy="47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844640"/>
                    <a:ext cx="583272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764640"/>
            <a:ext cx="7859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최적의 비용으로 효과를…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으로 실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erformance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에 따라 수익을 배분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광고주 입장에서 가장 합리적이고 웹의 형식을 가장 잘 반영한 진화된 광고 가격 모델이라는 평가를 받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 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Cros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779616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다양한 채널에서의 노출이…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터넷에서 상거래를 유도하기 위해서는 우선 많은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raffic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을 일으켜야 하며 이를 위해서는 다양한 채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Site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에서의 노출이 필수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 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Cros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93116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안정적인 수익을 장기적으로…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광고 시장의 상황에 관계없이 실적에 따른 안정적인 광고 수익을 장기적으로 얻을 수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 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Cros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7875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다양한 컨텐츠를 무료로</a:t>
            </a: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..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휴사이트는 머천트가 고객을 위해 제공하는 다양한 컨텐츠를 무료로 사용하여 자신의 사이트를 풍부하게 만들 수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 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Cros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41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Affiliate Program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Yahoo.com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Amazon.com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Yahoo.co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Amazon.com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의 판매 대행을 함으로써 서적에 관한 컨텐츠가 강화된다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판매 수익에 대한 커미션을 챙길 수 있다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mazon.co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새로운 고객창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보상프로그램을 통한 고객 재방문의 효과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 전략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방법론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Cros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Brand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484360" y="5805360"/>
            <a:ext cx="59752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0"/>
                </a:solidFill>
                <a:latin typeface="굴림"/>
              </a:rPr>
              <a:t>Reference: </a:t>
            </a:r>
            <a:r>
              <a:rPr b="0" lang="en-US" sz="1800" spc="-1" strike="noStrike" u="sng">
                <a:solidFill>
                  <a:srgbClr val="cccc00"/>
                </a:solidFill>
                <a:uFillTx/>
                <a:latin typeface="굴림"/>
                <a:hlinkClick r:id="rId1"/>
              </a:rPr>
              <a:t>http://www.webpro.co.kr/digital/dfe-7.htm</a:t>
            </a:r>
            <a:r>
              <a:rPr b="0" lang="en-US" sz="1800" spc="-1" strike="noStrike" u="sng">
                <a:solidFill>
                  <a:srgbClr val="000060"/>
                </a:solidFill>
                <a:uFillTx/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가치 있는 서비스를 통해 고객을 확보하고 지킨다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객 중심 원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41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Customized Service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재방문 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인사와 함께 기록된 정보를 토대로 제품을 추천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-Click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서비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객의 프로필에 있는 리스트 중에서 하나씩의 크레디트 카드와 수취주소만을 골라 넣는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원하는 책을 고른 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클릭을 누르기만 하면 선택된 프로필의 내용으로 책은 보내지고 구매는 종결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객중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개인적인</a:t>
            </a:r>
            <a:br>
              <a:rPr sz="1200"/>
            </a:b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12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인터넷의 월 마트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Introduction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소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4338000" y="6381720"/>
            <a:ext cx="37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Reference: &lt;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아마존이냐 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eBay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냐 퀵스타냐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?&gt; 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장영 저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916280"/>
            <a:ext cx="7705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0" lang="ko-KR" sz="3600" spc="-1" strike="noStrike">
                <a:solidFill>
                  <a:srgbClr val="ffffff"/>
                </a:solidFill>
                <a:latin typeface="굴림"/>
              </a:rPr>
              <a:t>미래를 예언하는 최상의 방법은 </a:t>
            </a:r>
            <a:br>
              <a:rPr sz="3600"/>
            </a:br>
            <a:r>
              <a:rPr b="0" lang="ko-KR" sz="3600" spc="-1" strike="noStrike">
                <a:solidFill>
                  <a:srgbClr val="ffffff"/>
                </a:solidFill>
                <a:latin typeface="굴림"/>
              </a:rPr>
              <a:t>미래를 만들어내는 것이다</a:t>
            </a:r>
            <a:r>
              <a:rPr b="0" lang="ko-KR" sz="3600" spc="-1" strike="noStrike">
                <a:solidFill>
                  <a:srgbClr val="ffffff"/>
                </a:solidFill>
                <a:latin typeface="굴림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앨런 캐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애플 컴퓨터사 연구담당 이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히크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바 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&lt;Creating Excellency&gt;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에서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698184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Customized Service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객중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개인적인</a:t>
            </a:r>
            <a:br>
              <a:rPr sz="1200"/>
            </a:b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What </a:t>
            </a:r>
            <a:br>
              <a:rPr sz="1200"/>
            </a:b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is it?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771640" y="2421000"/>
          <a:ext cx="540072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421000"/>
                    <a:ext cx="540072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122040" y="1484280"/>
            <a:ext cx="5191920" cy="791640"/>
          </a:xfrm>
          <a:prstGeom prst="rect">
            <a:avLst/>
          </a:prstGeom>
          <a:noFill/>
          <a:ln w="3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Hello, Jae-Hoon Choi. We have </a:t>
            </a:r>
            <a:r>
              <a:rPr b="0" lang="ko-KR" sz="1400" spc="-1" strike="noStrike" u="sng">
                <a:solidFill>
                  <a:srgbClr val="cccc00"/>
                </a:solidFill>
                <a:uFillTx/>
                <a:latin typeface="굴림"/>
                <a:hlinkClick r:id="rId3"/>
              </a:rPr>
              <a:t>recommendations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 for you.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(If you're not Jae-Hoon Choi, </a:t>
            </a:r>
            <a:r>
              <a:rPr b="0" lang="ko-KR" sz="1400" spc="-1" strike="noStrike" u="sng">
                <a:solidFill>
                  <a:srgbClr val="cccc00"/>
                </a:solidFill>
                <a:uFillTx/>
                <a:latin typeface="굴림"/>
                <a:hlinkClick r:id="rId4"/>
              </a:rPr>
              <a:t>click here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.)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1619280" y="2421000"/>
            <a:ext cx="2232000" cy="9367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41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개인 기록 서비스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록제 서비스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서비스 내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좋아하는 저자가 쓴 책에 대한 최신정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흥미 있는 분야의 서적ㆍ음반 리뷰정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객중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개인기록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개인적인</a:t>
            </a:r>
            <a:br>
              <a:rPr sz="1200"/>
            </a:b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714240" y="76500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지식을 마케팅하라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지식의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61272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객중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276720" y="1773360"/>
          <a:ext cx="48924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73360"/>
                    <a:ext cx="48924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 flipH="1" flipV="1">
            <a:off x="2268360" y="3715920"/>
            <a:ext cx="1152720" cy="1584360"/>
          </a:xfrm>
          <a:prstGeom prst="line">
            <a:avLst/>
          </a:prstGeom>
          <a:ln w="57240">
            <a:solidFill>
              <a:srgbClr val="66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2349360"/>
            <a:ext cx="3348000" cy="1191240"/>
          </a:xfrm>
          <a:prstGeom prst="rect">
            <a:avLst/>
          </a:prstGeom>
          <a:noFill/>
          <a:ln w="3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0"/>
                </a:solidFill>
                <a:latin typeface="굴림"/>
              </a:rPr>
              <a:t>Customers who bought this book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0"/>
                </a:solidFill>
                <a:latin typeface="굴림"/>
              </a:rPr>
              <a:t>also bought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714240" y="765000"/>
            <a:ext cx="731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지식을 마케팅하라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지식의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마케팅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>
            <a:off x="61272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객중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1618920" y="1699920"/>
            <a:ext cx="1152360" cy="1584360"/>
          </a:xfrm>
          <a:prstGeom prst="line">
            <a:avLst/>
          </a:prstGeom>
          <a:ln w="57240">
            <a:solidFill>
              <a:srgbClr val="66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771640" y="1916280"/>
          <a:ext cx="558036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916280"/>
                    <a:ext cx="558036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470880" y="1268280"/>
            <a:ext cx="1706400" cy="307080"/>
          </a:xfrm>
          <a:prstGeom prst="rect">
            <a:avLst/>
          </a:prstGeom>
          <a:noFill/>
          <a:ln w="3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Editorial Reviews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192960" y="3645000"/>
            <a:ext cx="2197080" cy="307080"/>
          </a:xfrm>
          <a:prstGeom prst="rect">
            <a:avLst/>
          </a:prstGeom>
          <a:noFill/>
          <a:ln w="3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Our Customer’s Advice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042920" y="2060640"/>
            <a:ext cx="1728720" cy="1439640"/>
          </a:xfrm>
          <a:prstGeom prst="line">
            <a:avLst/>
          </a:prstGeom>
          <a:ln w="57240">
            <a:solidFill>
              <a:srgbClr val="66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6838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배송 관리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빠른 배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가상 서점임에도 유통망 구축에 중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998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월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, 5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개의 물류 센터를 보유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배송진행 상황 보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배송관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1272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객중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284720" y="2133720"/>
          <a:ext cx="4319640" cy="33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133720"/>
                    <a:ext cx="43196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6838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배송 관리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12620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사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cccc00"/>
                </a:solidFill>
                <a:uFillTx/>
                <a:latin typeface="굴림"/>
                <a:hlinkClick r:id="rId1"/>
              </a:rPr>
              <a:t>http://</a:t>
            </a:r>
            <a:r>
              <a:rPr b="0" lang="ko-KR" sz="2000" spc="-1" strike="noStrike" u="sng">
                <a:solidFill>
                  <a:srgbClr val="cccc00"/>
                </a:solidFill>
                <a:uFillTx/>
                <a:latin typeface="굴림"/>
                <a:hlinkClick r:id="rId2"/>
              </a:rPr>
              <a:t>members.tripod.lycos.co.kr/jackchun</a:t>
            </a:r>
            <a:r>
              <a:rPr b="0" lang="ko-KR" sz="2000" spc="-1" strike="noStrike" u="sng">
                <a:solidFill>
                  <a:srgbClr val="cccc00"/>
                </a:solidFill>
                <a:uFillTx/>
                <a:latin typeface="굴림"/>
                <a:hlinkClick r:id="rId3"/>
              </a:rPr>
              <a:t>/</a:t>
            </a:r>
            <a:br>
              <a:rPr sz="2000"/>
            </a:br>
            <a:r>
              <a:rPr b="0" lang="ko-KR" sz="2000" spc="-1" strike="noStrike" u="sng">
                <a:solidFill>
                  <a:srgbClr val="ffffff"/>
                </a:solidFill>
                <a:uFillTx/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1998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년도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월에 나는 아마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반스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노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Bookstack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에 같은 책을 동시에 주문해 보았다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내용은 다르지 않았지만 아마존의 주문확인이 반스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노블보다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 먼저 도착했으며 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BookStack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의 확인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틀후에 도착했다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아마존의 책에 이어 반스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노블의 책이 왔으며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BookStack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의 책은 무려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주일후에 도달했다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배송관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1272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객중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41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Gold Box Service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Gold Box Servic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리 선택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지 상품에 대해서는 아마존의 정가에서 추가적인 할인을 받을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신 이 아이템에 대한 가격 할인은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 내에만 유효하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오락성 확보를 통한 구매 유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객중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Gold Box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What </a:t>
            </a:r>
            <a:br>
              <a:rPr sz="1200"/>
            </a:b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is it?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698184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Gold Box Service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객중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Gold Box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What </a:t>
            </a:r>
            <a:br>
              <a:rPr sz="1200"/>
            </a:b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is it?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195640" y="1484280"/>
          <a:ext cx="5472000" cy="49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484280"/>
                    <a:ext cx="547200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 flipH="1">
            <a:off x="1619280" y="1916280"/>
            <a:ext cx="5400720" cy="1728720"/>
          </a:xfrm>
          <a:prstGeom prst="line">
            <a:avLst/>
          </a:prstGeom>
          <a:ln w="57240">
            <a:solidFill>
              <a:srgbClr val="66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197640" y="3860640"/>
            <a:ext cx="1998720" cy="307080"/>
          </a:xfrm>
          <a:prstGeom prst="rect">
            <a:avLst/>
          </a:prstGeom>
          <a:noFill/>
          <a:ln w="3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Jae-Hoon's Gold Box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41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Gold Box Service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Gold Box Servic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품을 하나하나 열어보는 재미를 준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어떤 상품이 걸릴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’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하는 기대심리로 인해 복권과 같은 효과를 노린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마다 한 번씩은 아마존에 들려야 할 것 같은 생각을 갖게 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놓치면 괜히 손해 보는 것 같기도 하므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스럽게 재방문을 유도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고객중심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서비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Gold Box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효 과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비즈니스 주도권 장악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략적 제휴와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M&amp;A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129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회사 개요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828800"/>
          <a:ext cx="7631280" cy="4398840"/>
        </p:xfrm>
        <a:graphic>
          <a:graphicData uri="http://schemas.openxmlformats.org/drawingml/2006/table">
            <a:tbl>
              <a:tblPr/>
              <a:tblGrid>
                <a:gridCol w="1798560"/>
                <a:gridCol w="5832720"/>
              </a:tblGrid>
              <a:tr h="6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설립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994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년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웹사이트 개설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(1995.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사업분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서적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 CD, DVD,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제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생필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장난감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게임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전자제품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이용자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,000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만 명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실질고객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매출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1.2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억 달러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업계위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세계 최대의 인터넷 서점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인터넷 기업 시가총액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Introduction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회사 개요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38000" y="6381720"/>
            <a:ext cx="372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Reference: &lt;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아마존이냐 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eBay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냐 퀵스타냐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?&gt; </a:t>
            </a:r>
            <a:r>
              <a:rPr b="1" lang="ko-KR" sz="1400" spc="-1" strike="noStrike">
                <a:solidFill>
                  <a:srgbClr val="000060"/>
                </a:solidFill>
                <a:latin typeface="굴림"/>
              </a:rPr>
              <a:t>장영 저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Services &amp; Products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771720" cy="31035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와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M&amp;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Snapsho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140360" y="2133720"/>
          <a:ext cx="4176720" cy="31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2133720"/>
                    <a:ext cx="417672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6910200" cy="62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제휴의 목적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업이나 조직이 협력을 추진하는 아홉 가지 이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Mark N. Clemente &amp; David S. Greenspa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와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M&amp;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의 목적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343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직의 성장에 영향을 미치기 위해서</a:t>
            </a: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다른 업체와의 협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Amazon.com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이 제공하는 제품이나 서비스의 폭을 확장함으로써 고객의 재방문을 유도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와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M&amp;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의 목적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7634160" cy="7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시장 점유율을 높이기 위해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 업체의 단골 고객을 다른 업체의 단골 고객으로 연결시킴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Broadcast.co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associates program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약을 통해 오디오 및 비디오 테이프를 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와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M&amp;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의 목적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734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유통 채널을 확보하기 위해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물류시설을 매입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에 수월하게 접근 가능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창고시설 매입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객이 주문한 제품을 보다 신속하고 안전하게 배달 가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와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M&amp;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의 목적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1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zh-CN" sz="4000" spc="-1" strike="noStrike">
                <a:solidFill>
                  <a:srgbClr val="ffffff"/>
                </a:solidFill>
                <a:latin typeface="굴림"/>
              </a:rPr>
              <a:t>새로운 시장에 진입하기위해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Drugstore.co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지분 일부를 인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새로운 시장에 진입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새로운 취급품목 추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와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M&amp;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의 목적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777744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의 혁신과 발전을 추구하기 위해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업 인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Junglee, PlanetAll, Accept.com, AlexaResouces Inc. 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술부문에서 한걸음 앞서 나갈 수 있었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와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M&amp;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의 목적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경쟁을 완화하기 위해서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784224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희귀서적을 취급하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Exchange.com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arnes&amp;Noble.com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으로부터 매입 제안을 받음</a:t>
            </a:r>
            <a:br>
              <a:rPr sz="3200"/>
            </a:b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ezos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장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Exchange.com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매입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와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M&amp;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와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M&amp;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의 목적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7632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성을 강화하고 신뢰를 얻기 위해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업인수 및 타업체와의 협력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새로운 제품과 서비스를 제공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잠재 고객의 증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와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M&amp;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의 목적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7489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제적인 측면에 부응하기 위해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업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업 인수 관련 보도 자료 배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속적인 광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이트의 총 방문자수는 그 사이트의 수익성과 직결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와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M&amp;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제휴의 목적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489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One of Top E-Tailers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Introduction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현 상황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3120120" y="6237360"/>
            <a:ext cx="551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Reference: &lt;E-COMMERCE MANAGEMENT: TEXT AND CASES&gt;,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SANDEEP KRISHNAMURTHY </a:t>
            </a: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저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752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Amazon.com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구매가이드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처음 접하는 사용자를 위해 주문방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배송방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배송비에 대해서 자세한 설명을 추가하였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처음시작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Amazon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홈페이지에 접속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cccc00"/>
                </a:solidFill>
                <a:uFillTx/>
                <a:latin typeface="굴림"/>
                <a:hlinkClick r:id="rId1"/>
              </a:rPr>
              <a:t>http://amazon.com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url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창에 입력한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타 사이트에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Amazon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배너를 클릭한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219060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처음시작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25" name="amazon00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333760" cy="422424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981080" y="4800600"/>
            <a:ext cx="542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이 경우는  </a:t>
            </a: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Amazon.com</a:t>
            </a: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의 배너를 클릭해서 접속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Amazon.com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에 접속하면 판매 인기순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의 제품부터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0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까지 타이틀의 제목과 작은 이미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그리고 가격정보가 표시된 제품의 리스트가 나온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"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글래디에이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Gladiator)"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를 구매한다고 가정 했을 때를 예를 들어 설명하도록 하겠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Gladiato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타이틀 이미지나 타이틀 제목을 클릭하면 아래와 같은 화면이 나온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판매순위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100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판매순위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100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219060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37" name="amazon01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"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Availabilit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항목은 제품의 선적가능일을 나타내 준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재고가 있을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"The title usually ships within 24hours"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아직 출시되지 않은 제품의 경우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"Release Date: January 2, 2001. You may still order this title. We will ship it to you as soon as it is available."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판매순위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100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그 밖에 등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Rate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연배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tarring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감독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Director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등의 정보와 타이틀 관련정보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dition Details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나오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속해서 아래로 사용자들의 리뷰글이 언급되면서 맨 아랫부분에 </a:t>
            </a:r>
            <a:r>
              <a:rPr b="0" lang="ko-KR" sz="2800" spc="-1" strike="noStrike" u="sng">
                <a:solidFill>
                  <a:srgbClr val="ffffff"/>
                </a:solidFill>
                <a:uFillTx/>
                <a:latin typeface="굴림"/>
              </a:rPr>
              <a:t>"For more information about "Gladiator," visit the Internet Movie Database (IMDb)"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라는 항목이 나오는데 이를 클릭하면 타이틀의 사진 이미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스팅된 배우 목록 등 아주 자세한 정보를 얻을 수 있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5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7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판매순위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100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바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바탕"/>
                <a:ea typeface="바탕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타이틀에 대해서 기술적으로 좀더 정확한 정보를 얻으시려면 왼편에 있는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"Technical Information"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항목을 클릭하시면 타이틀의 기술적인 정보를 더 얻을 수 있다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바탕"/>
                <a:ea typeface="바탕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바탕"/>
                <a:ea typeface="바탕"/>
              </a:rPr>
              <a:t>이렇게 얻어진 정보를 토대로 구입코자 하면 오른쪽 위에 있는                를 클릭하면 타이틀이 장바구니에 담겨진다</a:t>
            </a:r>
            <a:r>
              <a:rPr b="0" lang="en-US" sz="28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4648320" y="4572000"/>
            <a:ext cx="1336680" cy="2286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판매순위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100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5" name=""/>
          <p:cNvSpPr/>
          <p:nvPr/>
        </p:nvSpPr>
        <p:spPr>
          <a:xfrm>
            <a:off x="219060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56" name="amazon02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477120" cy="374328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9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판매순위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100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바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여기서 쇼핑을 계속하려면         항목을 클릭하면 초기의 화면으로 돌아가게 된다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장바구니 담기를 끝내고 결제를 하려면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,           </a:t>
            </a:r>
            <a:r>
              <a:rPr b="0" lang="zh-CN" sz="3200" spc="-1" strike="noStrike">
                <a:solidFill>
                  <a:srgbClr val="ffffff"/>
                </a:solidFill>
                <a:latin typeface="바탕"/>
                <a:ea typeface="바탕"/>
              </a:rPr>
              <a:t>를 클릭하시면 아래와 같은 페이지로 이동하게 된다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장바구니에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담긴 모습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6400800" y="2057400"/>
          <a:ext cx="1143000" cy="18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2057400"/>
                    <a:ext cx="11430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"/>
          <p:cNvGraphicFramePr/>
          <p:nvPr/>
        </p:nvGraphicFramePr>
        <p:xfrm>
          <a:off x="1905120" y="4495680"/>
          <a:ext cx="1114200" cy="19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495680"/>
                    <a:ext cx="111420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489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One of Top E-Tailers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Introduction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현 상황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120120" y="6237360"/>
            <a:ext cx="551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Reference: &lt;E-COMMERCE MANAGEMENT: TEXT AND CASES&gt;,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SANDEEP KRISHNAMURTHY </a:t>
            </a: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저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4032360" cy="3910320"/>
          </a:xfrm>
          <a:prstGeom prst="rect">
            <a:avLst/>
          </a:prstGeom>
          <a:ln w="9360">
            <a:solidFill>
              <a:srgbClr val="6600ff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324000" y="1557360"/>
            <a:ext cx="8045280" cy="6426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Top 10 Fastest Growing E-tailers in the 2001 holiday shopping seas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Source: Nielsen Net Rating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3789360"/>
            <a:ext cx="1224000" cy="1944720"/>
          </a:xfrm>
          <a:prstGeom prst="line">
            <a:avLst/>
          </a:prstGeom>
          <a:ln w="5724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67680" y="322596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0"/>
                </a:solidFill>
                <a:latin typeface="굴림"/>
              </a:rPr>
              <a:t>9</a:t>
            </a:r>
            <a:r>
              <a:rPr b="1" lang="zh-CN" sz="2400" spc="-1" strike="noStrike">
                <a:solidFill>
                  <a:srgbClr val="000060"/>
                </a:solidFill>
                <a:latin typeface="굴림"/>
              </a:rPr>
              <a:t>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장바구니에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담긴 모습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2514600" y="1828800"/>
          <a:ext cx="340848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3408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바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바탕"/>
                <a:ea typeface="바탕"/>
              </a:rPr>
              <a:t>텍스트박스에 자신의 </a:t>
            </a:r>
            <a:r>
              <a:rPr b="0" lang="ko-KR" sz="3200" spc="-1" strike="noStrike">
                <a:solidFill>
                  <a:srgbClr val="ffffff"/>
                </a:solidFill>
                <a:latin typeface="바탕"/>
                <a:ea typeface="바탕"/>
              </a:rPr>
              <a:t>e-mail</a:t>
            </a:r>
            <a:r>
              <a:rPr b="0" lang="ko-KR" sz="3200" spc="-1" strike="noStrike">
                <a:solidFill>
                  <a:srgbClr val="ffffff"/>
                </a:solidFill>
                <a:latin typeface="바탕"/>
                <a:ea typeface="바탕"/>
              </a:rPr>
              <a:t>을 입력하시고</a:t>
            </a:r>
            <a:r>
              <a:rPr b="0" lang="ko-KR" sz="32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바탕"/>
                <a:ea typeface="바탕"/>
              </a:rPr>
              <a:t>이미 </a:t>
            </a:r>
            <a:r>
              <a:rPr b="0" lang="ko-KR" sz="3200" spc="-1" strike="noStrike">
                <a:solidFill>
                  <a:srgbClr val="ffffff"/>
                </a:solidFill>
                <a:latin typeface="바탕"/>
                <a:ea typeface="바탕"/>
              </a:rPr>
              <a:t>Amazon.com </a:t>
            </a:r>
            <a:r>
              <a:rPr b="0" lang="ko-KR" sz="3200" spc="-1" strike="noStrike">
                <a:solidFill>
                  <a:srgbClr val="ffffff"/>
                </a:solidFill>
                <a:latin typeface="바탕"/>
                <a:ea typeface="바탕"/>
              </a:rPr>
              <a:t>회원에 가입하셨다면 라디오버튼 중 아래 항목을</a:t>
            </a:r>
            <a:r>
              <a:rPr b="0" lang="ko-KR" sz="32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바탕"/>
                <a:ea typeface="바탕"/>
              </a:rPr>
              <a:t>신규가입을 원하신다면 윗쪽 항목을 체크하고               클릭한다</a:t>
            </a:r>
            <a:r>
              <a:rPr b="0" lang="ko-KR" sz="3200" spc="-1" strike="noStrike">
                <a:solidFill>
                  <a:srgbClr val="ffffff"/>
                </a:solidFill>
                <a:latin typeface="바탕"/>
                <a:ea typeface="바탕"/>
              </a:rPr>
              <a:t>.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7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메일입력 폼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2438280" y="4038480"/>
          <a:ext cx="1924200" cy="18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038480"/>
                    <a:ext cx="19242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3" name=""/>
          <p:cNvSpPr/>
          <p:nvPr/>
        </p:nvSpPr>
        <p:spPr>
          <a:xfrm>
            <a:off x="219060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84" name="amazon04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334120" cy="456552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메일입력 폼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바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입력방법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Full Name :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영문이름 입력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Address Line 1 :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번지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동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면까지 입력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Address Line 2 :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구 입력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예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: Yongsan-gu)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City :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도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시 입력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예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: Seoul)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Zip/Postal Code :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우편번호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Country : Korea (South)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선택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Phone Number :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전화번호 입력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Is this address also your billing address? : Yes </a:t>
            </a:r>
            <a:r>
              <a:rPr b="0" lang="ko-KR" sz="2800" spc="-1" strike="noStrike">
                <a:solidFill>
                  <a:srgbClr val="ffffff"/>
                </a:solidFill>
                <a:latin typeface="바탕"/>
                <a:ea typeface="바탕"/>
              </a:rPr>
              <a:t>선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0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1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배송지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정보입력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1981080" y="1905120"/>
          <a:ext cx="4753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4753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7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8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배송지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정보입력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주문한 제품을 받기 위해서는 다음과 같은 두 가지 방법이 있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 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"</a:t>
            </a:r>
            <a:r>
              <a:rPr b="0" lang="ko-KR" sz="2400" spc="-1" strike="noStrike" u="sng">
                <a:solidFill>
                  <a:srgbClr val="ffffff"/>
                </a:solidFill>
                <a:uFillTx/>
                <a:latin typeface="굴림"/>
              </a:rPr>
              <a:t>World Mail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은 물품 배송비가 싼 대신에 운송기간이 길다는 단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"</a:t>
            </a:r>
            <a:r>
              <a:rPr b="0" lang="ko-KR" sz="2400" spc="-1" strike="noStrike" u="sng">
                <a:solidFill>
                  <a:srgbClr val="ffffff"/>
                </a:solidFill>
                <a:uFillTx/>
                <a:latin typeface="굴림"/>
              </a:rPr>
              <a:t>International Priority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는 운송비가 비싼 대신에 아주 빠르게 받아 보실 수가 있다는 장점이 있습니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1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배송지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정보입력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5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6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7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     </a:t>
            </a: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배송지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정보입력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362320" y="1828800"/>
          <a:ext cx="3440160" cy="48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828800"/>
                    <a:ext cx="3440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"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굴림"/>
              </a:rPr>
              <a:t>World Mail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“ 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본운송비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USD $6.00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운송료가 더해진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타이틀 하나가 추가될 때마다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USD $1.95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개 금액이 추가 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"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굴림"/>
              </a:rPr>
              <a:t>International Priority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“ 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본운송비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USD $19.00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운송료가 더해진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타이틀 하나가 추가될 때마다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USD $2.25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개 금액이 추가 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운송방법을 결정하시고          항목을 클릭하시면 결제방법을 선택하는 화면으로 이동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3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4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운임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5076720" y="4508640"/>
          <a:ext cx="723960" cy="19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4508640"/>
                    <a:ext cx="72396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2362320" y="1781280"/>
          <a:ext cx="3705120" cy="48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81280"/>
                    <a:ext cx="3705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1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2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ko-KR" sz="1200" spc="-1" strike="noStrike">
                <a:solidFill>
                  <a:srgbClr val="000060"/>
                </a:solidFill>
                <a:latin typeface="굴림"/>
              </a:rPr>
              <a:t>운임비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Credit card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를이용해서 결제를 하려면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"Continue"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를 클릭하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른 크레디트 카드나 현금으로 결제 하려면 아래의 해당 항목을 클릭 하시면 된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ASA Card, Master Card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를 이용하여야 결제가 가능하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국내에서만 적용되는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BC Card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는 결제가 되지 않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금이나 수표로 결제하기는 국내에서 힘들 것이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5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6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결제방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489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굴림"/>
              </a:rPr>
              <a:t>One of Top E-Tailers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Introduction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현 상황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3120120" y="6237360"/>
            <a:ext cx="551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Reference: &lt;E-COMMERCE MANAGEMENT: TEXT AND CASES&gt;,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0"/>
                </a:solidFill>
                <a:latin typeface="굴림"/>
              </a:rPr>
              <a:t>SANDEEP KRISHNAMURTHY </a:t>
            </a:r>
            <a:r>
              <a:rPr b="1" lang="zh-CN" sz="1400" spc="-1" strike="noStrike">
                <a:solidFill>
                  <a:srgbClr val="000060"/>
                </a:solidFill>
                <a:latin typeface="굴림"/>
              </a:rPr>
              <a:t>저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045280" cy="946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"/>
              </a:rPr>
              <a:t>Amazon.com’s Stock Price Path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(Source: Quicken.com, S stands for stock split, Accessed on September 26, 2002)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3959280" cy="3840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12000" y="5589720"/>
            <a:ext cx="2216160" cy="5202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Period: Sep-25-1997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~ Sep-25-2002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굴림"/>
              </a:rPr>
              <a:t>"Do you have a gift certificate or promotional claim code ?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라는 항목이 나오는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부분은 상품권 코드를 입력하는 곳이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품권이 없으면 입력하지 않아도 된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br>
              <a:rPr sz="2800"/>
            </a:b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마지막 비밀번호 입력박스에 두번 반복해서 입력하시고           항목을 클릭하면 마지막 주문확인 페이지로 넘어간다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2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결제방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3276720" y="4581360"/>
          <a:ext cx="723960" cy="19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581360"/>
                    <a:ext cx="72396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7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8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결제방법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2286000" y="1828800"/>
          <a:ext cx="3639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828800"/>
                    <a:ext cx="3639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위의 이미지는 크레디트 카드를 선택하고 해당사항을 입력한 후에 출력되는 사항들입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여기에서 최종적으로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를 클릭하시면 아래와 같은 화면이 뜨고 주문이 완전히 끝난 상태가 됩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3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5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문확인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1095480" y="3619440"/>
          <a:ext cx="1114200" cy="19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3619440"/>
                    <a:ext cx="11142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514600" y="1828800"/>
          <a:ext cx="30178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828800"/>
                    <a:ext cx="30178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2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3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문확인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다음 이미지는 주문이 완전히 끝나고 나오는 화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7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8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문완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600200" y="2895480"/>
          <a:ext cx="6095880" cy="32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609588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종적으로 주문이 끝나면 아마존으로부터 주문확인 메일을 받을 수 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3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4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5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문확인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3200400" y="1866960"/>
          <a:ext cx="2082960" cy="49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866960"/>
                    <a:ext cx="208296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0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1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문확인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DVD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타이틀 구매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메일을 받아보면 윗부분에 다음과 같은 메뉴가 보일 것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  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을 클릭하시면 주문상태와 취소를 할 수 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4" name=""/>
          <p:cNvSpPr/>
          <p:nvPr/>
        </p:nvSpPr>
        <p:spPr>
          <a:xfrm>
            <a:off x="684360" y="115920"/>
            <a:ext cx="1049040" cy="533520"/>
          </a:xfrm>
          <a:custGeom>
            <a:avLst/>
            <a:gdLst>
              <a:gd name="textAreaLeft" fmla="*/ 0 w 1049040"/>
              <a:gd name="textAreaRight" fmla="*/ 1049400 w 1049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가이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5" name=""/>
          <p:cNvSpPr/>
          <p:nvPr/>
        </p:nvSpPr>
        <p:spPr>
          <a:xfrm>
            <a:off x="154764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DVD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구매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6" name=""/>
          <p:cNvSpPr/>
          <p:nvPr/>
        </p:nvSpPr>
        <p:spPr>
          <a:xfrm>
            <a:off x="2411280" y="115920"/>
            <a:ext cx="1049400" cy="533520"/>
          </a:xfrm>
          <a:custGeom>
            <a:avLst/>
            <a:gdLst>
              <a:gd name="textAreaLeft" fmla="*/ 0 w 1049400"/>
              <a:gd name="textAreaRight" fmla="*/ 1049760 w 1049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주문상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  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확인</a:t>
            </a:r>
            <a:r>
              <a:rPr b="1" lang="en-US" sz="1200" spc="-1" strike="noStrike">
                <a:solidFill>
                  <a:srgbClr val="000060"/>
                </a:solidFill>
                <a:latin typeface="굴림"/>
              </a:rPr>
              <a:t>/</a:t>
            </a:r>
            <a:r>
              <a:rPr b="1" lang="zh-CN" sz="1200" spc="-1" strike="noStrike">
                <a:solidFill>
                  <a:srgbClr val="000060"/>
                </a:solidFill>
                <a:latin typeface="굴림"/>
              </a:rPr>
              <a:t>취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5508720" y="2565360"/>
          <a:ext cx="799920" cy="1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2565360"/>
                    <a:ext cx="79992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"/>
          <p:cNvGraphicFramePr/>
          <p:nvPr/>
        </p:nvGraphicFramePr>
        <p:xfrm>
          <a:off x="2514600" y="4495680"/>
          <a:ext cx="4753080" cy="4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495680"/>
                    <a:ext cx="475308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인터넷 쇼핑몰의 대표적인 비즈니스 모델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통 주체에 따른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14:10:47Z</dcterms:created>
  <dc:creator>Sophie Marceau</dc:creator>
  <dc:description/>
  <dc:language>en-US</dc:language>
  <cp:lastModifiedBy>Sophie Marceau</cp:lastModifiedBy>
  <dcterms:modified xsi:type="dcterms:W3CDTF">2003-06-22T07:01:44Z</dcterms:modified>
  <cp:revision>98</cp:revision>
  <dc:subject/>
  <dc:title>Amazon</dc:title>
</cp:coreProperties>
</file>